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3.png" ContentType="image/png"/>
  <Override PartName="/ppt/media/Fly2shortest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5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wmf" ContentType="image/x-wmf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B42-ED22-4604-945D-321BE3293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B4B1-5DE3-4282-9F3F-B8AF19C8B06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B717-C531-4C0C-BCDE-2743A09F615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8B8-D176-4DE9-A7ED-694A4E5C13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chenne muscular dystroph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fects one in 3,500 males born in the United Stat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fected individuals rarely live past their early 20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disorder is due to the absence of an X-linked gene for a key muscle protein, called dystrophi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ease is characterized by a progressive weakening of the muscles and loss of coordin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E0C-FD1B-41B7-B7E3-51BCF531A6E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D08-9723-4351-B4D8-25BA9DCE00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F2C-A6BF-4D56-B3C5-974590B4EB7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lative importance of genes &amp; the environment in influencing human characteristics is a very old &amp; hotly contested deb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ingle tree has leaves that vary in size, shape &amp; color, depending on exposure to wind &amp; su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umans, nutrition influences height, exercise alters build, sun-tanning darkens the skin, and experience improves performance on intelligence t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 identical twins — genetic equals — accumulate phenotypic differences as a result of their unique exper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086-5A86-4850-AEBB-9914A857338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A530-4E39-4498-96B5-0D4AFA74C3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4.15a Pedigre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2003-70E1-4466-99E8-26D8294934F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4.15b Pedigre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92C6-191E-4398-981C-90C8FFC725E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BF16-D86B-45E1-A3EC-2CED39D839E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6D0-C288-4230-A98D-AB5DD1318E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1144-398C-405B-A9E4-3B37916F4E0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C83-EA20-4E48-BD80-7D6079A0AE1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B6F-4893-4B36-9C9F-6CF15D6D30B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AA3-9203-4F28-AE50-3090A9B687C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EDF7-0D44-4E43-A5E9-DE9CAA7CB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F296-FC38-484E-85A3-E5F7B65A6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BAC2-013F-4472-95C2-44FF8FA5F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DFB-40C2-4065-89E3-8C030D91A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BD96-F171-43D9-83BC-BAA12CD69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4B0F-4AF4-4066-95F9-A9F2F7628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95F6-CE13-46F8-9702-32BA13D0F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ED8E-A0AE-4874-9531-41B52E2B9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4642-2153-4CBC-8ED7-CAAFCEE3D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C4BF-6E00-427D-BE60-404BB795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16C7-E36B-4622-968B-A2DDC9812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5EA6-B32D-4566-A6F5-CDA7E357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060-3098-4C9D-ABF3-96F830F6596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512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880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audio" Target="../media/Fly2shortest.wav"/><Relationship Id="rId10" Type="http://schemas.openxmlformats.org/officeDocument/2006/relationships/audio" Target="../media/Fly2shortest.wav"/><Relationship Id="rId11" Type="http://schemas.openxmlformats.org/officeDocument/2006/relationships/audio" Target="../media/Fly2shortest.wav"/><Relationship Id="rId12" Type="http://schemas.openxmlformats.org/officeDocument/2006/relationships/audio" Target="../media/Fly2shortest.wav"/><Relationship Id="rId13" Type="http://schemas.openxmlformats.org/officeDocument/2006/relationships/audio" Target="../media/Fly2shortest.wav"/><Relationship Id="rId14" Type="http://schemas.openxmlformats.org/officeDocument/2006/relationships/audio" Target="../media/Fly2shortest.wav"/><Relationship Id="rId15" Type="http://schemas.openxmlformats.org/officeDocument/2006/relationships/audio" Target="../media/Fly2shortest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6858000" y="3733920"/>
            <a:ext cx="213372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584360" y="2943000"/>
            <a:ext cx="52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yond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Law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f Inheritanc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384960" y="380880"/>
            <a:ext cx="263196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303120" y="3695760"/>
            <a:ext cx="1373400" cy="30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13_18a"/>
          <p:cNvPicPr/>
          <p:nvPr/>
        </p:nvPicPr>
        <p:blipFill>
          <a:blip r:embed="rId4"/>
          <a:srcRect l="1122" t="9000" r="1122" b="15000"/>
          <a:stretch/>
        </p:blipFill>
        <p:spPr>
          <a:xfrm>
            <a:off x="174600" y="538200"/>
            <a:ext cx="3651120" cy="2127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pic>
        <p:nvPicPr>
          <p:cNvPr id="106" name="Picture 14" descr="13_18b"/>
          <p:cNvPicPr/>
          <p:nvPr/>
        </p:nvPicPr>
        <p:blipFill>
          <a:blip r:embed="rId5"/>
          <a:srcRect l="1122" t="9000" r="1122" b="12000"/>
          <a:stretch/>
        </p:blipFill>
        <p:spPr>
          <a:xfrm>
            <a:off x="2467080" y="4432320"/>
            <a:ext cx="3601800" cy="218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290960" y="2208960"/>
            <a:ext cx="101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07800" y="22089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rgan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flies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412720" y="15343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2" name="Picture 6" descr="fly-white eye male"/>
          <p:cNvPicPr/>
          <p:nvPr/>
        </p:nvPicPr>
        <p:blipFill>
          <a:blip r:embed="rId1"/>
          <a:stretch/>
        </p:blipFill>
        <p:spPr>
          <a:xfrm>
            <a:off x="3017880" y="10843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fly-red eye female"/>
          <p:cNvPicPr/>
          <p:nvPr/>
        </p:nvPicPr>
        <p:blipFill>
          <a:blip r:embed="rId2"/>
          <a:stretch/>
        </p:blipFill>
        <p:spPr>
          <a:xfrm>
            <a:off x="1428840" y="1068480"/>
            <a:ext cx="1020600" cy="127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100160" y="353052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19"/>
          <p:cNvSpPr/>
          <p:nvPr/>
        </p:nvSpPr>
        <p:spPr>
          <a:xfrm>
            <a:off x="1631880" y="2980440"/>
            <a:ext cx="52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3054240" y="2980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23080" y="518580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1289880" y="6209280"/>
            <a:ext cx="251640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red ey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9" name="Picture 23" descr="fly-red eye female"/>
          <p:cNvPicPr/>
          <p:nvPr/>
        </p:nvPicPr>
        <p:blipFill>
          <a:blip r:embed="rId3"/>
          <a:stretch/>
        </p:blipFill>
        <p:spPr>
          <a:xfrm>
            <a:off x="1495440" y="3440160"/>
            <a:ext cx="804960" cy="10015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4"/>
          <p:cNvSpPr/>
          <p:nvPr/>
        </p:nvSpPr>
        <p:spPr>
          <a:xfrm>
            <a:off x="523080" y="39506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25" descr="fly-red eye female"/>
          <p:cNvPicPr/>
          <p:nvPr/>
        </p:nvPicPr>
        <p:blipFill>
          <a:blip r:embed="rId4"/>
          <a:stretch/>
        </p:blipFill>
        <p:spPr>
          <a:xfrm>
            <a:off x="1495440" y="4695840"/>
            <a:ext cx="804960" cy="1001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fly-red eye male"/>
          <p:cNvPicPr/>
          <p:nvPr/>
        </p:nvPicPr>
        <p:blipFill>
          <a:blip r:embed="rId5"/>
          <a:stretch/>
        </p:blipFill>
        <p:spPr>
          <a:xfrm>
            <a:off x="2895480" y="3440160"/>
            <a:ext cx="812880" cy="1011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fly-red eye male"/>
          <p:cNvPicPr/>
          <p:nvPr/>
        </p:nvPicPr>
        <p:blipFill>
          <a:blip r:embed="rId6"/>
          <a:stretch/>
        </p:blipFill>
        <p:spPr>
          <a:xfrm>
            <a:off x="2895480" y="4686480"/>
            <a:ext cx="812880" cy="1010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8"/>
          <p:cNvSpPr/>
          <p:nvPr/>
        </p:nvSpPr>
        <p:spPr>
          <a:xfrm>
            <a:off x="1380240" y="554904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837160" y="554904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2837160" y="426168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1380240" y="426168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6770520" y="15343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 rot="19806600">
            <a:off x="3555720" y="2949120"/>
            <a:ext cx="2300040" cy="486000"/>
          </a:xfrm>
          <a:custGeom>
            <a:avLst/>
            <a:gdLst>
              <a:gd name="textAreaLeft" fmla="*/ 359280 w 2300040"/>
              <a:gd name="textAreaRight" fmla="*/ 2012760 w 23000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34" descr="fly-red eye female"/>
          <p:cNvPicPr/>
          <p:nvPr/>
        </p:nvPicPr>
        <p:blipFill>
          <a:blip r:embed="rId7"/>
          <a:stretch/>
        </p:blipFill>
        <p:spPr>
          <a:xfrm>
            <a:off x="5726160" y="106848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5" descr="fly-red eye male"/>
          <p:cNvPicPr/>
          <p:nvPr/>
        </p:nvPicPr>
        <p:blipFill>
          <a:blip r:embed="rId8"/>
          <a:stretch/>
        </p:blipFill>
        <p:spPr>
          <a:xfrm>
            <a:off x="7353360" y="1092240"/>
            <a:ext cx="10206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8"/>
          <p:cNvSpPr/>
          <p:nvPr/>
        </p:nvSpPr>
        <p:spPr>
          <a:xfrm>
            <a:off x="5682240" y="222336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7339320" y="222336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6233040" y="29804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7692840" y="2980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Rectangle 42"/>
          <p:cNvSpPr/>
          <p:nvPr/>
        </p:nvSpPr>
        <p:spPr>
          <a:xfrm>
            <a:off x="5161680" y="39506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5199120" y="5185800"/>
            <a:ext cx="52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4" descr="fly-red eye female"/>
          <p:cNvPicPr/>
          <p:nvPr/>
        </p:nvPicPr>
        <p:blipFill>
          <a:blip r:embed="rId9"/>
          <a:stretch/>
        </p:blipFill>
        <p:spPr>
          <a:xfrm>
            <a:off x="6135840" y="3440160"/>
            <a:ext cx="804600" cy="1001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5" descr="fly-red eye female"/>
          <p:cNvPicPr/>
          <p:nvPr/>
        </p:nvPicPr>
        <p:blipFill>
          <a:blip r:embed="rId10"/>
          <a:stretch/>
        </p:blipFill>
        <p:spPr>
          <a:xfrm>
            <a:off x="6135840" y="4695840"/>
            <a:ext cx="804600" cy="100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6" descr="fly-red eye male"/>
          <p:cNvPicPr/>
          <p:nvPr/>
        </p:nvPicPr>
        <p:blipFill>
          <a:blip r:embed="rId11"/>
          <a:stretch/>
        </p:blipFill>
        <p:spPr>
          <a:xfrm>
            <a:off x="7526160" y="3440160"/>
            <a:ext cx="812880" cy="1011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7"/>
          <p:cNvSpPr/>
          <p:nvPr/>
        </p:nvSpPr>
        <p:spPr>
          <a:xfrm>
            <a:off x="6020280" y="554904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7477560" y="426168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5983560" y="4261680"/>
            <a:ext cx="101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50" descr="fly-white eye male"/>
          <p:cNvPicPr/>
          <p:nvPr/>
        </p:nvPicPr>
        <p:blipFill>
          <a:blip r:embed="rId12"/>
          <a:stretch/>
        </p:blipFill>
        <p:spPr>
          <a:xfrm>
            <a:off x="7526160" y="4695840"/>
            <a:ext cx="8128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1"/>
          <p:cNvSpPr/>
          <p:nvPr/>
        </p:nvSpPr>
        <p:spPr>
          <a:xfrm>
            <a:off x="7515000" y="5549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52"/>
          <p:cNvSpPr/>
          <p:nvPr/>
        </p:nvSpPr>
        <p:spPr>
          <a:xfrm>
            <a:off x="5311440" y="6111360"/>
            <a:ext cx="379008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0% red fema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% red males; 50% white ma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738760" y="353052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s on sex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9280" y="1273320"/>
            <a:ext cx="842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ew genes other tha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R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ex-determining reg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ter regulator for malenes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urns on genes for production of male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its other than sex determin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utations: (all are recessiv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emophili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uchenne muscular dystrophy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color-blindnes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emophil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371600" y="16002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h   x   HH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3200400" y="1409760"/>
            <a:ext cx="914400" cy="914400"/>
            <a:chOff x="3200400" y="1409760"/>
            <a:chExt cx="914400" cy="914400"/>
          </a:xfrm>
        </p:grpSpPr>
        <p:sp>
          <p:nvSpPr>
            <p:cNvPr id="263" name="Rectangle 5"/>
            <p:cNvSpPr/>
            <p:nvPr/>
          </p:nvSpPr>
          <p:spPr>
            <a:xfrm>
              <a:off x="3200400" y="140976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3233880" y="159156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1773360" y="1371600"/>
            <a:ext cx="990360" cy="990720"/>
            <a:chOff x="1773360" y="1371600"/>
            <a:chExt cx="990360" cy="990720"/>
          </a:xfrm>
        </p:grpSpPr>
        <p:sp>
          <p:nvSpPr>
            <p:cNvPr id="266" name="Oval 8"/>
            <p:cNvSpPr/>
            <p:nvPr/>
          </p:nvSpPr>
          <p:spPr>
            <a:xfrm>
              <a:off x="1773360" y="1371600"/>
              <a:ext cx="990360" cy="990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1774800" y="159156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5888160" y="2446200"/>
            <a:ext cx="1644840" cy="990720"/>
            <a:chOff x="5888160" y="2446200"/>
            <a:chExt cx="1644840" cy="990720"/>
          </a:xfrm>
        </p:grpSpPr>
        <p:sp>
          <p:nvSpPr>
            <p:cNvPr id="269" name="AutoShape 11"/>
            <p:cNvSpPr/>
            <p:nvPr/>
          </p:nvSpPr>
          <p:spPr>
            <a:xfrm rot="1800000">
              <a:off x="6926040" y="31237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AutoShape 12"/>
            <p:cNvSpPr/>
            <p:nvPr/>
          </p:nvSpPr>
          <p:spPr>
            <a:xfrm flipV="1" rot="19800000">
              <a:off x="6926040" y="25909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71" name="Group 13"/>
            <p:cNvGrpSpPr/>
            <p:nvPr/>
          </p:nvGrpSpPr>
          <p:grpSpPr>
            <a:xfrm>
              <a:off x="5888160" y="2446200"/>
              <a:ext cx="990360" cy="990720"/>
              <a:chOff x="5888160" y="2446200"/>
              <a:chExt cx="990360" cy="990720"/>
            </a:xfrm>
          </p:grpSpPr>
          <p:sp>
            <p:nvSpPr>
              <p:cNvPr id="272" name="Oval 14"/>
              <p:cNvSpPr/>
              <p:nvPr/>
            </p:nvSpPr>
            <p:spPr>
              <a:xfrm>
                <a:off x="5888160" y="2446200"/>
                <a:ext cx="990360" cy="990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3" name="Rectangle 15"/>
              <p:cNvSpPr/>
              <p:nvPr/>
            </p:nvSpPr>
            <p:spPr>
              <a:xfrm>
                <a:off x="5889600" y="2666160"/>
                <a:ext cx="985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Group 16"/>
          <p:cNvGrpSpPr/>
          <p:nvPr/>
        </p:nvGrpSpPr>
        <p:grpSpPr>
          <a:xfrm>
            <a:off x="7543800" y="2057400"/>
            <a:ext cx="838080" cy="838080"/>
            <a:chOff x="7543800" y="2057400"/>
            <a:chExt cx="838080" cy="838080"/>
          </a:xfrm>
        </p:grpSpPr>
        <p:sp>
          <p:nvSpPr>
            <p:cNvPr id="275" name="Oval 17"/>
            <p:cNvSpPr/>
            <p:nvPr/>
          </p:nvSpPr>
          <p:spPr>
            <a:xfrm>
              <a:off x="7543800" y="2057400"/>
              <a:ext cx="83808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7665120" y="220104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7" name="Group 19"/>
          <p:cNvGrpSpPr/>
          <p:nvPr/>
        </p:nvGrpSpPr>
        <p:grpSpPr>
          <a:xfrm>
            <a:off x="7543800" y="3048120"/>
            <a:ext cx="838080" cy="838080"/>
            <a:chOff x="7543800" y="3048120"/>
            <a:chExt cx="838080" cy="838080"/>
          </a:xfrm>
        </p:grpSpPr>
        <p:sp>
          <p:nvSpPr>
            <p:cNvPr id="278" name="Oval 20"/>
            <p:cNvSpPr/>
            <p:nvPr/>
          </p:nvSpPr>
          <p:spPr>
            <a:xfrm>
              <a:off x="7543800" y="3048120"/>
              <a:ext cx="83808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9" name="Rectangle 21"/>
            <p:cNvSpPr/>
            <p:nvPr/>
          </p:nvSpPr>
          <p:spPr>
            <a:xfrm>
              <a:off x="7677360" y="3191400"/>
              <a:ext cx="570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0" name="Group 22"/>
          <p:cNvGrpSpPr/>
          <p:nvPr/>
        </p:nvGrpSpPr>
        <p:grpSpPr>
          <a:xfrm>
            <a:off x="5943600" y="4810680"/>
            <a:ext cx="1589400" cy="980640"/>
            <a:chOff x="5943600" y="4810680"/>
            <a:chExt cx="1589400" cy="980640"/>
          </a:xfrm>
        </p:grpSpPr>
        <p:sp>
          <p:nvSpPr>
            <p:cNvPr id="281" name="AutoShape 23"/>
            <p:cNvSpPr/>
            <p:nvPr/>
          </p:nvSpPr>
          <p:spPr>
            <a:xfrm rot="1800000">
              <a:off x="6926040" y="54860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AutoShape 24"/>
            <p:cNvSpPr/>
            <p:nvPr/>
          </p:nvSpPr>
          <p:spPr>
            <a:xfrm flipV="1" rot="19800000">
              <a:off x="6926040" y="495288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83" name="Group 25"/>
            <p:cNvGrpSpPr/>
            <p:nvPr/>
          </p:nvGrpSpPr>
          <p:grpSpPr>
            <a:xfrm>
              <a:off x="5943600" y="4876920"/>
              <a:ext cx="914400" cy="914400"/>
              <a:chOff x="5943600" y="4876920"/>
              <a:chExt cx="914400" cy="914400"/>
            </a:xfrm>
          </p:grpSpPr>
          <p:sp>
            <p:nvSpPr>
              <p:cNvPr id="284" name="Rectangle 26"/>
              <p:cNvSpPr/>
              <p:nvPr/>
            </p:nvSpPr>
            <p:spPr>
              <a:xfrm>
                <a:off x="5943600" y="487692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85" name="Rectangle 27"/>
              <p:cNvSpPr/>
              <p:nvPr/>
            </p:nvSpPr>
            <p:spPr>
              <a:xfrm>
                <a:off x="5977080" y="5058720"/>
                <a:ext cx="84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Y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Rectangle 28"/>
          <p:cNvSpPr/>
          <p:nvPr/>
        </p:nvSpPr>
        <p:spPr>
          <a:xfrm>
            <a:off x="7581960" y="5486400"/>
            <a:ext cx="762120" cy="76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7581960" y="4419720"/>
            <a:ext cx="76212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5229000" y="576000"/>
            <a:ext cx="370080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sex-linked recessiv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0" name="Group 42"/>
          <p:cNvGrpSpPr/>
          <p:nvPr/>
        </p:nvGrpSpPr>
        <p:grpSpPr>
          <a:xfrm>
            <a:off x="2178720" y="2696040"/>
            <a:ext cx="1891800" cy="889200"/>
            <a:chOff x="2178720" y="2696040"/>
            <a:chExt cx="1891800" cy="889200"/>
          </a:xfrm>
        </p:grpSpPr>
        <p:sp>
          <p:nvSpPr>
            <p:cNvPr id="291" name="Rectangle 43"/>
            <p:cNvSpPr/>
            <p:nvPr/>
          </p:nvSpPr>
          <p:spPr>
            <a:xfrm>
              <a:off x="2178720" y="303444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44"/>
            <p:cNvSpPr/>
            <p:nvPr/>
          </p:nvSpPr>
          <p:spPr>
            <a:xfrm>
              <a:off x="36291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Rectangle 45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4" name="Group 46"/>
          <p:cNvGrpSpPr/>
          <p:nvPr/>
        </p:nvGrpSpPr>
        <p:grpSpPr>
          <a:xfrm>
            <a:off x="821160" y="4003560"/>
            <a:ext cx="924120" cy="1951560"/>
            <a:chOff x="821160" y="4003560"/>
            <a:chExt cx="924120" cy="1951560"/>
          </a:xfrm>
        </p:grpSpPr>
        <p:sp>
          <p:nvSpPr>
            <p:cNvPr id="295" name="Rectangle 47"/>
            <p:cNvSpPr/>
            <p:nvPr/>
          </p:nvSpPr>
          <p:spPr>
            <a:xfrm>
              <a:off x="1149840" y="410148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150920" y="5257080"/>
              <a:ext cx="570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 rot="16200000">
              <a:off x="59760" y="476460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8" name="Group 50"/>
          <p:cNvGrpSpPr/>
          <p:nvPr/>
        </p:nvGrpSpPr>
        <p:grpSpPr>
          <a:xfrm>
            <a:off x="1935360" y="3809880"/>
            <a:ext cx="1010160" cy="990720"/>
            <a:chOff x="1935360" y="3809880"/>
            <a:chExt cx="1010160" cy="990720"/>
          </a:xfrm>
        </p:grpSpPr>
        <p:sp>
          <p:nvSpPr>
            <p:cNvPr id="299" name="Oval 51"/>
            <p:cNvSpPr/>
            <p:nvPr/>
          </p:nvSpPr>
          <p:spPr>
            <a:xfrm>
              <a:off x="1946160" y="3809880"/>
              <a:ext cx="990360" cy="990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5360" y="4029840"/>
              <a:ext cx="101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1" name="Group 53"/>
          <p:cNvGrpSpPr/>
          <p:nvPr/>
        </p:nvGrpSpPr>
        <p:grpSpPr>
          <a:xfrm>
            <a:off x="1960920" y="5105520"/>
            <a:ext cx="990360" cy="990360"/>
            <a:chOff x="1960920" y="5105520"/>
            <a:chExt cx="990360" cy="990360"/>
          </a:xfrm>
        </p:grpSpPr>
        <p:sp>
          <p:nvSpPr>
            <p:cNvPr id="302" name="Oval 54"/>
            <p:cNvSpPr/>
            <p:nvPr/>
          </p:nvSpPr>
          <p:spPr>
            <a:xfrm>
              <a:off x="1960920" y="5105520"/>
              <a:ext cx="990360" cy="990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55"/>
            <p:cNvSpPr/>
            <p:nvPr/>
          </p:nvSpPr>
          <p:spPr>
            <a:xfrm>
              <a:off x="1962360" y="532512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4" name="Group 56"/>
          <p:cNvGrpSpPr/>
          <p:nvPr/>
        </p:nvGrpSpPr>
        <p:grpSpPr>
          <a:xfrm>
            <a:off x="3429000" y="3809880"/>
            <a:ext cx="914400" cy="914400"/>
            <a:chOff x="3429000" y="3809880"/>
            <a:chExt cx="914400" cy="914400"/>
          </a:xfrm>
        </p:grpSpPr>
        <p:sp>
          <p:nvSpPr>
            <p:cNvPr id="305" name="Rectangle 57"/>
            <p:cNvSpPr/>
            <p:nvPr/>
          </p:nvSpPr>
          <p:spPr>
            <a:xfrm>
              <a:off x="3429000" y="380988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58"/>
            <p:cNvSpPr/>
            <p:nvPr/>
          </p:nvSpPr>
          <p:spPr>
            <a:xfrm>
              <a:off x="3462480" y="399168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7" name="Group 59"/>
          <p:cNvGrpSpPr/>
          <p:nvPr/>
        </p:nvGrpSpPr>
        <p:grpSpPr>
          <a:xfrm>
            <a:off x="3429000" y="5105520"/>
            <a:ext cx="914400" cy="914400"/>
            <a:chOff x="3429000" y="5105520"/>
            <a:chExt cx="914400" cy="914400"/>
          </a:xfrm>
        </p:grpSpPr>
        <p:sp>
          <p:nvSpPr>
            <p:cNvPr id="308" name="Rectangle 60"/>
            <p:cNvSpPr/>
            <p:nvPr/>
          </p:nvSpPr>
          <p:spPr>
            <a:xfrm>
              <a:off x="3429000" y="510552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61"/>
            <p:cNvSpPr/>
            <p:nvPr/>
          </p:nvSpPr>
          <p:spPr>
            <a:xfrm>
              <a:off x="3475080" y="5287320"/>
              <a:ext cx="82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0" name="Group 62"/>
          <p:cNvGrpSpPr/>
          <p:nvPr/>
        </p:nvGrpSpPr>
        <p:grpSpPr>
          <a:xfrm>
            <a:off x="1933920" y="3809880"/>
            <a:ext cx="1010160" cy="990720"/>
            <a:chOff x="1933920" y="3809880"/>
            <a:chExt cx="1010160" cy="990720"/>
          </a:xfrm>
        </p:grpSpPr>
        <p:sp>
          <p:nvSpPr>
            <p:cNvPr id="311" name="Oval 63"/>
            <p:cNvSpPr/>
            <p:nvPr/>
          </p:nvSpPr>
          <p:spPr>
            <a:xfrm>
              <a:off x="1944720" y="3809880"/>
              <a:ext cx="990360" cy="990720"/>
            </a:xfrm>
            <a:prstGeom prst="ellipse">
              <a:avLst/>
            </a:prstGeom>
            <a:solidFill>
              <a:srgbClr val="008405"/>
            </a:solidFill>
            <a:ln w="57240">
              <a:solidFill>
                <a:srgbClr val="008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64"/>
            <p:cNvSpPr/>
            <p:nvPr/>
          </p:nvSpPr>
          <p:spPr>
            <a:xfrm>
              <a:off x="1933920" y="4029840"/>
              <a:ext cx="101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3" name="Group 65"/>
          <p:cNvGrpSpPr/>
          <p:nvPr/>
        </p:nvGrpSpPr>
        <p:grpSpPr>
          <a:xfrm>
            <a:off x="3429000" y="3809880"/>
            <a:ext cx="914400" cy="914400"/>
            <a:chOff x="3429000" y="3809880"/>
            <a:chExt cx="914400" cy="914400"/>
          </a:xfrm>
        </p:grpSpPr>
        <p:sp>
          <p:nvSpPr>
            <p:cNvPr id="314" name="Rectangle 66"/>
            <p:cNvSpPr/>
            <p:nvPr/>
          </p:nvSpPr>
          <p:spPr>
            <a:xfrm>
              <a:off x="3429000" y="3809880"/>
              <a:ext cx="914400" cy="914400"/>
            </a:xfrm>
            <a:prstGeom prst="rect">
              <a:avLst/>
            </a:prstGeom>
            <a:solidFill>
              <a:srgbClr val="008405"/>
            </a:solidFill>
            <a:ln w="57240">
              <a:solidFill>
                <a:srgbClr val="008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67"/>
            <p:cNvSpPr/>
            <p:nvPr/>
          </p:nvSpPr>
          <p:spPr>
            <a:xfrm>
              <a:off x="3462840" y="399168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6" name="Group 68"/>
          <p:cNvGrpSpPr/>
          <p:nvPr/>
        </p:nvGrpSpPr>
        <p:grpSpPr>
          <a:xfrm>
            <a:off x="1960560" y="5105520"/>
            <a:ext cx="990720" cy="990360"/>
            <a:chOff x="1960560" y="5105520"/>
            <a:chExt cx="990720" cy="990360"/>
          </a:xfrm>
        </p:grpSpPr>
        <p:sp>
          <p:nvSpPr>
            <p:cNvPr id="317" name="Oval 69"/>
            <p:cNvSpPr/>
            <p:nvPr/>
          </p:nvSpPr>
          <p:spPr>
            <a:xfrm>
              <a:off x="1960560" y="5105520"/>
              <a:ext cx="990720" cy="990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70"/>
            <p:cNvSpPr/>
            <p:nvPr/>
          </p:nvSpPr>
          <p:spPr>
            <a:xfrm>
              <a:off x="1962360" y="532548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9" name="Group 71"/>
          <p:cNvGrpSpPr/>
          <p:nvPr/>
        </p:nvGrpSpPr>
        <p:grpSpPr>
          <a:xfrm>
            <a:off x="3429000" y="5105520"/>
            <a:ext cx="914400" cy="914400"/>
            <a:chOff x="3429000" y="5105520"/>
            <a:chExt cx="914400" cy="914400"/>
          </a:xfrm>
        </p:grpSpPr>
        <p:sp>
          <p:nvSpPr>
            <p:cNvPr id="320" name="Rectangle 72"/>
            <p:cNvSpPr/>
            <p:nvPr/>
          </p:nvSpPr>
          <p:spPr>
            <a:xfrm>
              <a:off x="3429000" y="5105520"/>
              <a:ext cx="914400" cy="91440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73"/>
            <p:cNvSpPr/>
            <p:nvPr/>
          </p:nvSpPr>
          <p:spPr>
            <a:xfrm>
              <a:off x="3474720" y="5287320"/>
              <a:ext cx="82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2" name="AutoShape 74"/>
          <p:cNvSpPr/>
          <p:nvPr/>
        </p:nvSpPr>
        <p:spPr>
          <a:xfrm>
            <a:off x="1932840" y="6240960"/>
            <a:ext cx="108108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arri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AutoShape 75"/>
          <p:cNvSpPr/>
          <p:nvPr/>
        </p:nvSpPr>
        <p:spPr>
          <a:xfrm>
            <a:off x="3275280" y="6240960"/>
            <a:ext cx="124884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rcRect l="18000" t="8000" r="15302" b="10666"/>
          <a:stretch/>
        </p:blipFill>
        <p:spPr>
          <a:xfrm>
            <a:off x="0" y="3030480"/>
            <a:ext cx="3290760" cy="27082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X-inactiv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280" y="1371600"/>
            <a:ext cx="849636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male mammals inherit 2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 X becomes inactivated during embryonic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denses into compact object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arr bod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which X becomes Barr body is </a:t>
            </a:r>
            <a:r>
              <a:rPr b="1" lang="en-US" sz="2400" spc="-1" strike="noStrike" u="sng">
                <a:solidFill>
                  <a:srgbClr val="ff0aff"/>
                </a:solidFill>
                <a:uFillTx/>
                <a:latin typeface="Arial"/>
              </a:rPr>
              <a:t>ran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atchwork trait = </a:t>
            </a:r>
            <a:r>
              <a:rPr b="1" lang="ja-JP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osaic</a:t>
            </a:r>
            <a:r>
              <a:rPr b="1" lang="ja-JP" sz="20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2101680" y="4600440"/>
            <a:ext cx="3657600" cy="21290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17"/>
          <p:cNvGrpSpPr/>
          <p:nvPr/>
        </p:nvGrpSpPr>
        <p:grpSpPr>
          <a:xfrm>
            <a:off x="7780320" y="4071960"/>
            <a:ext cx="1023840" cy="1023840"/>
            <a:chOff x="7780320" y="4071960"/>
            <a:chExt cx="1023840" cy="1023840"/>
          </a:xfrm>
        </p:grpSpPr>
        <p:sp>
          <p:nvSpPr>
            <p:cNvPr id="329" name="Oval 10"/>
            <p:cNvSpPr/>
            <p:nvPr/>
          </p:nvSpPr>
          <p:spPr>
            <a:xfrm>
              <a:off x="7780320" y="407196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7855560" y="4293360"/>
              <a:ext cx="89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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1" name="Group 18"/>
          <p:cNvGrpSpPr/>
          <p:nvPr/>
        </p:nvGrpSpPr>
        <p:grpSpPr>
          <a:xfrm>
            <a:off x="7780320" y="5497560"/>
            <a:ext cx="1023840" cy="1023840"/>
            <a:chOff x="7780320" y="5497560"/>
            <a:chExt cx="1023840" cy="1023840"/>
          </a:xfrm>
        </p:grpSpPr>
        <p:sp>
          <p:nvSpPr>
            <p:cNvPr id="332" name="Oval 13"/>
            <p:cNvSpPr/>
            <p:nvPr/>
          </p:nvSpPr>
          <p:spPr>
            <a:xfrm>
              <a:off x="7780320" y="549756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7867800" y="5731920"/>
              <a:ext cx="872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6003"/>
                  </a:solidFill>
                  <a:latin typeface="Webdings"/>
                  <a:ea typeface="Webdings"/>
                </a:rPr>
                <a:t></a:t>
              </a:r>
              <a:r>
                <a:rPr b="1" lang="en-US" sz="3000" spc="-1" strike="noStrike">
                  <a:solidFill>
                    <a:srgbClr val="ff6003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6003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4" name="Freeform 15"/>
          <p:cNvSpPr/>
          <p:nvPr/>
        </p:nvSpPr>
        <p:spPr>
          <a:xfrm>
            <a:off x="7216920" y="4844880"/>
            <a:ext cx="577800" cy="965520"/>
          </a:xfrm>
          <a:custGeom>
            <a:avLst/>
            <a:gdLst/>
            <a:ahLst/>
            <a:rect l="l" t="t" r="r" b="b"/>
            <a:pathLst>
              <a:path w="364" h="608">
                <a:moveTo>
                  <a:pt x="364" y="0"/>
                </a:moveTo>
                <a:lnTo>
                  <a:pt x="0" y="316"/>
                </a:lnTo>
                <a:lnTo>
                  <a:pt x="345" y="6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6143760" y="4827600"/>
            <a:ext cx="1023840" cy="1023840"/>
            <a:chOff x="6143760" y="4827600"/>
            <a:chExt cx="1023840" cy="1023840"/>
          </a:xfrm>
        </p:grpSpPr>
        <p:sp>
          <p:nvSpPr>
            <p:cNvPr id="336" name="Rectangle 8"/>
            <p:cNvSpPr/>
            <p:nvPr/>
          </p:nvSpPr>
          <p:spPr>
            <a:xfrm>
              <a:off x="6174000" y="5061960"/>
              <a:ext cx="98568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6003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6003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6143760" y="482760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8" name="AutoShape 19"/>
          <p:cNvSpPr/>
          <p:nvPr/>
        </p:nvSpPr>
        <p:spPr>
          <a:xfrm>
            <a:off x="6420600" y="3710880"/>
            <a:ext cx="2119320" cy="337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ches of blac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AutoShape 20"/>
          <p:cNvSpPr/>
          <p:nvPr/>
        </p:nvSpPr>
        <p:spPr>
          <a:xfrm>
            <a:off x="6419880" y="6519240"/>
            <a:ext cx="2317680" cy="337680"/>
          </a:xfrm>
          <a:prstGeom prst="roundRect">
            <a:avLst>
              <a:gd name="adj" fmla="val 16667"/>
            </a:avLst>
          </a:prstGeom>
          <a:solidFill>
            <a:srgbClr val="ff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ches of orang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100080" y="5763600"/>
            <a:ext cx="1647720" cy="1013760"/>
          </a:xfrm>
          <a:prstGeom prst="roundRect">
            <a:avLst>
              <a:gd name="adj" fmla="val 16667"/>
            </a:avLst>
          </a:prstGeom>
          <a:solidFill>
            <a:srgbClr val="ff6003"/>
          </a:solidFill>
          <a:ln w="9360">
            <a:solidFill>
              <a:srgbClr val="20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tricolor cats</a:t>
            </a:r>
            <a:br>
              <a:rPr sz="2000"/>
            </a:b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can only be</a:t>
            </a:r>
            <a:br>
              <a:rPr sz="2000"/>
            </a:b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femal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vironmental effec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enotype is controlled by both</a:t>
            </a:r>
            <a:r>
              <a:rPr b="1" lang="en-US" sz="3000" spc="-1" strike="noStrike">
                <a:solidFill>
                  <a:srgbClr val="0f116a"/>
                </a:solidFill>
                <a:latin typeface="ヒラギノ角ゴ Pro W3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vironment &amp; ge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rcRect l="9217" t="0" r="0" b="0"/>
          <a:stretch/>
        </p:blipFill>
        <p:spPr>
          <a:xfrm>
            <a:off x="0" y="3378240"/>
            <a:ext cx="4572000" cy="3022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152280" y="6094800"/>
            <a:ext cx="3657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lor of Hydrangea flowers is influenced by soil pH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600200" y="248184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uman skin color is influenced by both genetics &amp; environmental conditio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886200" y="5943600"/>
            <a:ext cx="990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7" name="Picture 11" descr="f13-18_environmental_ef"/>
          <p:cNvPicPr/>
          <p:nvPr/>
        </p:nvPicPr>
        <p:blipFill>
          <a:blip r:embed="rId2"/>
          <a:srcRect l="22500" t="2252" r="22500" b="0"/>
          <a:stretch/>
        </p:blipFill>
        <p:spPr>
          <a:xfrm>
            <a:off x="6477120" y="3808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1905120" cy="2565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5791320" y="4818240"/>
            <a:ext cx="3230280" cy="19634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6400800" y="3581280"/>
            <a:ext cx="2743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at color in arctic fox influenced by heat sensitive allel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120" y="6285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digree Analy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305000"/>
            <a:ext cx="853452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 pedigree is a family tree that describes the interrelationships of parents and children across gener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heritance patterns of particular traits can be traced and described using pedigre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0" t="34625" r="0" b="32693"/>
          <a:stretch/>
        </p:blipFill>
        <p:spPr>
          <a:xfrm>
            <a:off x="531720" y="4148280"/>
            <a:ext cx="808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4_15bPedigreeAnalysis-U"/>
          <p:cNvPicPr/>
          <p:nvPr/>
        </p:nvPicPr>
        <p:blipFill>
          <a:blip r:embed="rId1"/>
          <a:stretch/>
        </p:blipFill>
        <p:spPr>
          <a:xfrm>
            <a:off x="885960" y="573120"/>
            <a:ext cx="7372080" cy="57862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ig. 14-15b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932040" y="698400"/>
            <a:ext cx="1839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st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grandparent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919080" y="1981080"/>
            <a:ext cx="19162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2n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parents, aunts,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d uncle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932040" y="3213000"/>
            <a:ext cx="17762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3r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two sister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913120" y="5486400"/>
            <a:ext cx="1763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189840" y="5486400"/>
            <a:ext cx="2081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o 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957240" y="5918040"/>
            <a:ext cx="6259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a) Is a 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 a dominant or recessive trait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03520" y="1031760"/>
            <a:ext cx="384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424400" y="1031760"/>
            <a:ext cx="384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116160" y="253692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799160" y="25304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3713040" y="254304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4259160" y="253692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5586480" y="103176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6462720" y="254304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5681520" y="2543040"/>
            <a:ext cx="384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6494400" y="10256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5643720" y="4035600"/>
            <a:ext cx="3524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4824360" y="4035600"/>
            <a:ext cx="473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4843440" y="45878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4913280" y="4302000"/>
            <a:ext cx="320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4" descr="14_15cPedigreeAnalysis-U"/>
          <p:cNvPicPr/>
          <p:nvPr/>
        </p:nvPicPr>
        <p:blipFill>
          <a:blip r:embed="rId1"/>
          <a:stretch/>
        </p:blipFill>
        <p:spPr>
          <a:xfrm>
            <a:off x="901800" y="174600"/>
            <a:ext cx="7340400" cy="65851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5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ig. 14-15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3040200" y="5638680"/>
            <a:ext cx="2081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ttached earlob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957240" y="368280"/>
            <a:ext cx="1839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st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grandparent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957240" y="1587600"/>
            <a:ext cx="19162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2n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parents, aunts,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d uncle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957240" y="2819520"/>
            <a:ext cx="17766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3r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two sister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710400" y="5638680"/>
            <a:ext cx="1611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ree earlob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969840" y="6299280"/>
            <a:ext cx="6767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b) Is an attached earlobe a dominant or recessive trait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38703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47721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3699000" y="21351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5178600" y="21351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6048360" y="214164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972040" y="63036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68547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4098960" y="2141640"/>
            <a:ext cx="245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4651200" y="214164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6848640" y="2147760"/>
            <a:ext cx="245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5254560" y="363384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Text Box 43"/>
          <p:cNvSpPr/>
          <p:nvPr/>
        </p:nvSpPr>
        <p:spPr>
          <a:xfrm>
            <a:off x="2962440" y="2141640"/>
            <a:ext cx="33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Text Box 44"/>
          <p:cNvSpPr/>
          <p:nvPr/>
        </p:nvSpPr>
        <p:spPr>
          <a:xfrm>
            <a:off x="3387600" y="2141640"/>
            <a:ext cx="271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Text Box 45"/>
          <p:cNvSpPr/>
          <p:nvPr/>
        </p:nvSpPr>
        <p:spPr>
          <a:xfrm>
            <a:off x="5997600" y="3919680"/>
            <a:ext cx="277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9" name="Text Box 46"/>
          <p:cNvSpPr/>
          <p:nvPr/>
        </p:nvSpPr>
        <p:spPr>
          <a:xfrm>
            <a:off x="5952960" y="3633840"/>
            <a:ext cx="33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Text Box 47"/>
          <p:cNvSpPr/>
          <p:nvPr/>
        </p:nvSpPr>
        <p:spPr>
          <a:xfrm>
            <a:off x="5985000" y="41925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complete 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eterozygote shows an intermediate, blended phenotyp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example: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red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a17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white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119b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pink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make 50% less colo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5843" r="0" b="19459"/>
          <a:stretch/>
        </p:blipFill>
        <p:spPr>
          <a:xfrm>
            <a:off x="1143000" y="4343400"/>
            <a:ext cx="6904080" cy="2479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2651040" y="6303240"/>
            <a:ext cx="73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47960" y="2634840"/>
            <a:ext cx="92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649400" y="3034800"/>
            <a:ext cx="107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649400" y="3435120"/>
            <a:ext cx="10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119b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0119b"/>
                </a:solidFill>
                <a:latin typeface="Arial"/>
              </a:rPr>
              <a:t>RW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7129440" y="63032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W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886280" y="630324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119b"/>
                </a:solidFill>
                <a:latin typeface="Arial"/>
              </a:rPr>
              <a:t>RW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33683" t="0" r="44215" b="81537"/>
          <a:stretch/>
        </p:blipFill>
        <p:spPr>
          <a:xfrm>
            <a:off x="5105520" y="1295280"/>
            <a:ext cx="814320" cy="1141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0" t="0" r="75798" b="81537"/>
          <a:stretch/>
        </p:blipFill>
        <p:spPr>
          <a:xfrm>
            <a:off x="3352680" y="1295280"/>
            <a:ext cx="892440" cy="1160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complete 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74840" y="1550880"/>
            <a:ext cx="1980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 flower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237720" y="1550880"/>
            <a:ext cx="20581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587880" y="1599480"/>
            <a:ext cx="482040" cy="50508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05080"/>
              <a:gd name="textAreaBottom" fmla="*/ 481680 h 505080"/>
            </a:gdLst>
            <a:ahLst/>
            <a:rect l="textAreaLeft" t="textAreaTop" r="textAreaRight" b="textAreaBottom"/>
            <a:pathLst>
              <a:path w="21600" h="22632">
                <a:moveTo>
                  <a:pt x="3600" y="0"/>
                </a:moveTo>
                <a:arcTo wR="3600" hR="3600" stAng="16200000" swAng="-5400000"/>
                <a:lnTo>
                  <a:pt x="0" y="19032"/>
                </a:lnTo>
                <a:arcTo wR="3600" hR="3600" stAng="10800000" swAng="-5400000"/>
                <a:lnTo>
                  <a:pt x="18000" y="22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3743280" y="2320920"/>
            <a:ext cx="22716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5459400" y="2311560"/>
            <a:ext cx="22716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7" name="Group 58"/>
          <p:cNvGrpSpPr/>
          <p:nvPr/>
        </p:nvGrpSpPr>
        <p:grpSpPr>
          <a:xfrm>
            <a:off x="557280" y="2953440"/>
            <a:ext cx="8429040" cy="1648800"/>
            <a:chOff x="557280" y="2953440"/>
            <a:chExt cx="8429040" cy="1648800"/>
          </a:xfrm>
        </p:grpSpPr>
        <p:sp>
          <p:nvSpPr>
            <p:cNvPr id="128" name="AutoShape 9"/>
            <p:cNvSpPr/>
            <p:nvPr/>
          </p:nvSpPr>
          <p:spPr>
            <a:xfrm>
              <a:off x="7777800" y="3433680"/>
              <a:ext cx="1208520" cy="5580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3267720" y="2953440"/>
              <a:ext cx="2637360" cy="363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00% </a:t>
              </a: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ink flow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57280" y="3214080"/>
              <a:ext cx="1590840" cy="11192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31" name="Group 25"/>
            <p:cNvGrpSpPr/>
            <p:nvPr/>
          </p:nvGrpSpPr>
          <p:grpSpPr>
            <a:xfrm>
              <a:off x="2819520" y="3352680"/>
              <a:ext cx="3633840" cy="1104840"/>
              <a:chOff x="2819520" y="3352680"/>
              <a:chExt cx="3633840" cy="1104840"/>
            </a:xfrm>
          </p:grpSpPr>
          <p:pic>
            <p:nvPicPr>
              <p:cNvPr id="132" name="Picture 26" descr=""/>
              <p:cNvPicPr/>
              <p:nvPr/>
            </p:nvPicPr>
            <p:blipFill>
              <a:blip r:embed="rId3"/>
              <a:srcRect l="15792" t="31988" r="62106" b="50174"/>
              <a:stretch/>
            </p:blipFill>
            <p:spPr>
              <a:xfrm>
                <a:off x="281952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27" descr=""/>
              <p:cNvPicPr/>
              <p:nvPr/>
            </p:nvPicPr>
            <p:blipFill>
              <a:blip r:embed="rId4"/>
              <a:srcRect l="15792" t="31988" r="62106" b="50174"/>
              <a:stretch/>
            </p:blipFill>
            <p:spPr>
              <a:xfrm>
                <a:off x="375948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28" descr=""/>
              <p:cNvPicPr/>
              <p:nvPr/>
            </p:nvPicPr>
            <p:blipFill>
              <a:blip r:embed="rId5"/>
              <a:srcRect l="15792" t="31988" r="62106" b="50174"/>
              <a:stretch/>
            </p:blipFill>
            <p:spPr>
              <a:xfrm>
                <a:off x="469908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29" descr=""/>
              <p:cNvPicPr/>
              <p:nvPr/>
            </p:nvPicPr>
            <p:blipFill>
              <a:blip r:embed="rId6"/>
              <a:srcRect l="15792" t="31988" r="62106" b="50174"/>
              <a:stretch/>
            </p:blipFill>
            <p:spPr>
              <a:xfrm>
                <a:off x="563904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39"/>
            <p:cNvSpPr/>
            <p:nvPr/>
          </p:nvSpPr>
          <p:spPr>
            <a:xfrm>
              <a:off x="322092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7" name="Rectangle 41"/>
            <p:cNvSpPr/>
            <p:nvPr/>
          </p:nvSpPr>
          <p:spPr>
            <a:xfrm>
              <a:off x="420048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8" name="Rectangle 42"/>
            <p:cNvSpPr/>
            <p:nvPr/>
          </p:nvSpPr>
          <p:spPr>
            <a:xfrm>
              <a:off x="511812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Rectangle 43"/>
            <p:cNvSpPr/>
            <p:nvPr/>
          </p:nvSpPr>
          <p:spPr>
            <a:xfrm>
              <a:off x="6054840" y="440064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327960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4210200" y="328140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517032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609444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4" name="AutoShape 60"/>
          <p:cNvSpPr/>
          <p:nvPr/>
        </p:nvSpPr>
        <p:spPr>
          <a:xfrm flipH="1">
            <a:off x="4086360" y="40575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61"/>
          <p:cNvSpPr/>
          <p:nvPr/>
        </p:nvSpPr>
        <p:spPr>
          <a:xfrm>
            <a:off x="4596480" y="45309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62"/>
          <p:cNvGrpSpPr/>
          <p:nvPr/>
        </p:nvGrpSpPr>
        <p:grpSpPr>
          <a:xfrm>
            <a:off x="571320" y="5104800"/>
            <a:ext cx="8378640" cy="1749960"/>
            <a:chOff x="571320" y="5104800"/>
            <a:chExt cx="8378640" cy="1749960"/>
          </a:xfrm>
        </p:grpSpPr>
        <p:pic>
          <p:nvPicPr>
            <p:cNvPr id="147" name="Picture 63" descr=""/>
            <p:cNvPicPr/>
            <p:nvPr/>
          </p:nvPicPr>
          <p:blipFill>
            <a:blip r:embed="rId7"/>
            <a:srcRect l="15792" t="31988" r="62106" b="50174"/>
            <a:stretch/>
          </p:blipFill>
          <p:spPr>
            <a:xfrm>
              <a:off x="4249800" y="5673600"/>
              <a:ext cx="81432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64"/>
            <p:cNvSpPr/>
            <p:nvPr/>
          </p:nvSpPr>
          <p:spPr>
            <a:xfrm>
              <a:off x="4714920" y="559116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9" name="Picture 65" descr=""/>
            <p:cNvPicPr/>
            <p:nvPr/>
          </p:nvPicPr>
          <p:blipFill>
            <a:blip r:embed="rId8"/>
            <a:srcRect l="33683" t="0" r="44215" b="81537"/>
            <a:stretch/>
          </p:blipFill>
          <p:spPr>
            <a:xfrm>
              <a:off x="5545080" y="5654520"/>
              <a:ext cx="8143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66"/>
            <p:cNvSpPr/>
            <p:nvPr/>
          </p:nvSpPr>
          <p:spPr>
            <a:xfrm>
              <a:off x="5469120" y="5104800"/>
              <a:ext cx="96156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ヒラギノ角ゴ Pro W3"/>
                </a:rPr>
                <a:t>_x0008__x0008_</a:t>
              </a: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67"/>
            <p:cNvSpPr/>
            <p:nvPr/>
          </p:nvSpPr>
          <p:spPr>
            <a:xfrm>
              <a:off x="571320" y="5700600"/>
              <a:ext cx="1565640" cy="862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52" name="Picture 68" descr=""/>
            <p:cNvPicPr/>
            <p:nvPr/>
          </p:nvPicPr>
          <p:blipFill>
            <a:blip r:embed="rId9"/>
            <a:srcRect l="0" t="0" r="75798" b="81537"/>
            <a:stretch/>
          </p:blipFill>
          <p:spPr>
            <a:xfrm>
              <a:off x="2892600" y="5645160"/>
              <a:ext cx="89208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AutoShape 69"/>
            <p:cNvSpPr/>
            <p:nvPr/>
          </p:nvSpPr>
          <p:spPr>
            <a:xfrm>
              <a:off x="2912400" y="5104800"/>
              <a:ext cx="80784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re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4" name="AutoShape 70"/>
            <p:cNvSpPr/>
            <p:nvPr/>
          </p:nvSpPr>
          <p:spPr>
            <a:xfrm>
              <a:off x="7826760" y="5303520"/>
              <a:ext cx="1123200" cy="5580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:2:1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71"/>
            <p:cNvSpPr/>
            <p:nvPr/>
          </p:nvSpPr>
          <p:spPr>
            <a:xfrm>
              <a:off x="3292560" y="666108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6" name="Rectangle 72"/>
            <p:cNvSpPr/>
            <p:nvPr/>
          </p:nvSpPr>
          <p:spPr>
            <a:xfrm>
              <a:off x="4664160" y="666108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5883120" y="666108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74"/>
            <p:cNvSpPr/>
            <p:nvPr/>
          </p:nvSpPr>
          <p:spPr>
            <a:xfrm>
              <a:off x="4187520" y="5104800"/>
              <a:ext cx="82296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50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ink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re are two or more alleles that are dominant in a phenotype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Both alleles are expressed in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heterozygous condi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Red – RR, white – WW, red and white - R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573880" y="4017960"/>
            <a:ext cx="2719080" cy="265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ttp://www.hobart.k12.in.us/jkousen/Biology/rw01.jpg"/>
          <p:cNvPicPr/>
          <p:nvPr/>
        </p:nvPicPr>
        <p:blipFill>
          <a:blip r:embed="rId2"/>
          <a:stretch/>
        </p:blipFill>
        <p:spPr>
          <a:xfrm>
            <a:off x="3252960" y="4389480"/>
            <a:ext cx="1915920" cy="191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www.biologycorner.com/resources/roancow.jpg"/>
          <p:cNvPicPr/>
          <p:nvPr/>
        </p:nvPicPr>
        <p:blipFill>
          <a:blip r:embed="rId3"/>
          <a:stretch/>
        </p:blipFill>
        <p:spPr>
          <a:xfrm>
            <a:off x="455760" y="4656240"/>
            <a:ext cx="26985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rcRect l="0" t="10437" r="6468" b="0"/>
          <a:stretch/>
        </p:blipFill>
        <p:spPr>
          <a:xfrm>
            <a:off x="6384960" y="4656240"/>
            <a:ext cx="2708280" cy="2141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Alle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4800" y="1371240"/>
            <a:ext cx="800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alleles affect the phenotype equally &amp; separatel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t blended phenoty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uman ABO blood grou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, 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lleles are co-domina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glycoprotein antigens on RBC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= both antigens are produced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llele recessive to bo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6302520" y="1968480"/>
            <a:ext cx="2743200" cy="2048040"/>
          </a:xfrm>
          <a:prstGeom prst="rect">
            <a:avLst/>
          </a:prstGeom>
          <a:ln w="9360">
            <a:solidFill>
              <a:srgbClr val="582b00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genic inherit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46560" y="2286000"/>
            <a:ext cx="3846600" cy="4572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phenotypes determined by additive effects of 2 or more genes on a single characterist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enotypes on a continu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uman tra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kin colo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e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tellige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havi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284560" y="564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298680" y="5013360"/>
            <a:ext cx="2851200" cy="173664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 linked tra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9560" y="1357200"/>
            <a:ext cx="8167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nes are on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ex chromosom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 opposed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utosom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hrom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discovered by T.H. Morgan at Columbia U.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Drosophil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reeding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od genetic subjec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prolific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2 week generat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4 pairs of chromosome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XX=female, XY=male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248520" y="3333600"/>
            <a:ext cx="2793960" cy="341640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sp>
        <p:nvSpPr>
          <p:cNvPr id="176" name="Rectangle 6"/>
          <p:cNvSpPr/>
          <p:nvPr/>
        </p:nvSpPr>
        <p:spPr>
          <a:xfrm>
            <a:off x="661464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10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3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7" name="Picture 7" descr="15-02-EyeColor"/>
          <p:cNvPicPr/>
          <p:nvPr/>
        </p:nvPicPr>
        <p:blipFill>
          <a:blip r:embed="rId3"/>
          <a:srcRect l="0" t="10396" r="0" b="4458"/>
          <a:stretch/>
        </p:blipFill>
        <p:spPr>
          <a:xfrm>
            <a:off x="49320" y="5037120"/>
            <a:ext cx="3151080" cy="171288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nguinL"/>
          <p:cNvPicPr/>
          <p:nvPr/>
        </p:nvPicPr>
        <p:blipFill>
          <a:blip r:embed="rId1"/>
          <a:stretch/>
        </p:blipFill>
        <p:spPr>
          <a:xfrm>
            <a:off x="7869240" y="36622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"/>
          <p:cNvSpPr/>
          <p:nvPr/>
        </p:nvSpPr>
        <p:spPr>
          <a:xfrm>
            <a:off x="7081920" y="2222640"/>
            <a:ext cx="1855800" cy="1110960"/>
          </a:xfrm>
          <a:prstGeom prst="wedgeEllipseCallout">
            <a:avLst>
              <a:gd name="adj1" fmla="val 7314"/>
              <a:gd name="adj2" fmla="val 944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u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x matters?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3440" y="539892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2003040" y="4965120"/>
            <a:ext cx="2205360" cy="700200"/>
          </a:xfrm>
          <a:prstGeom prst="roundRect">
            <a:avLst>
              <a:gd name="adj" fmla="val 16667"/>
            </a:avLst>
          </a:prstGeom>
          <a:solidFill>
            <a:srgbClr val="ffa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-eye fe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5270400" y="4965120"/>
            <a:ext cx="2911680" cy="700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red-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1a17"/>
                </a:solidFill>
                <a:latin typeface="Arial"/>
              </a:rPr>
              <a:t>50% white 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scovery of sex linka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66416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5766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52560" y="3164400"/>
            <a:ext cx="1600920" cy="1219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521160" y="2993400"/>
            <a:ext cx="2514600" cy="700200"/>
          </a:xfrm>
          <a:prstGeom prst="roundRect">
            <a:avLst>
              <a:gd name="adj" fmla="val 16667"/>
            </a:avLst>
          </a:prstGeom>
          <a:solidFill>
            <a:srgbClr val="caa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 eye offspr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Picture 14" descr="fly-red eye female"/>
          <p:cNvPicPr/>
          <p:nvPr/>
        </p:nvPicPr>
        <p:blipFill>
          <a:blip r:embed="rId2"/>
          <a:stretch/>
        </p:blipFill>
        <p:spPr>
          <a:xfrm>
            <a:off x="2595600" y="55879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fly-red eye male"/>
          <p:cNvPicPr/>
          <p:nvPr/>
        </p:nvPicPr>
        <p:blipFill>
          <a:blip r:embed="rId3"/>
          <a:stretch/>
        </p:blipFill>
        <p:spPr>
          <a:xfrm>
            <a:off x="5429160" y="5587920"/>
            <a:ext cx="1020960" cy="1270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5243760" y="1377720"/>
            <a:ext cx="21679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3" name="Picture 17" descr="fly-white eye male"/>
          <p:cNvPicPr/>
          <p:nvPr/>
        </p:nvPicPr>
        <p:blipFill>
          <a:blip r:embed="rId4"/>
          <a:stretch/>
        </p:blipFill>
        <p:spPr>
          <a:xfrm>
            <a:off x="5818320" y="1828800"/>
            <a:ext cx="1020600" cy="127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2186280" y="1369800"/>
            <a:ext cx="21376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-eye fe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5" name="Picture 19" descr="fly-red eye female"/>
          <p:cNvPicPr/>
          <p:nvPr/>
        </p:nvPicPr>
        <p:blipFill>
          <a:blip r:embed="rId5"/>
          <a:stretch/>
        </p:blipFill>
        <p:spPr>
          <a:xfrm>
            <a:off x="2744640" y="1828800"/>
            <a:ext cx="1020960" cy="127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fly-red eye female"/>
          <p:cNvPicPr/>
          <p:nvPr/>
        </p:nvPicPr>
        <p:blipFill>
          <a:blip r:embed="rId6"/>
          <a:stretch/>
        </p:blipFill>
        <p:spPr>
          <a:xfrm>
            <a:off x="3776760" y="3435480"/>
            <a:ext cx="1020600" cy="1269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fly-red eye male"/>
          <p:cNvPicPr/>
          <p:nvPr/>
        </p:nvPicPr>
        <p:blipFill>
          <a:blip r:embed="rId7"/>
          <a:stretch/>
        </p:blipFill>
        <p:spPr>
          <a:xfrm>
            <a:off x="4784760" y="34369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fly-white eye male"/>
          <p:cNvPicPr/>
          <p:nvPr/>
        </p:nvPicPr>
        <p:blipFill>
          <a:blip r:embed="rId8"/>
          <a:stretch/>
        </p:blipFill>
        <p:spPr>
          <a:xfrm>
            <a:off x="6932520" y="5587920"/>
            <a:ext cx="1020960" cy="12700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3"/>
          <p:cNvSpPr/>
          <p:nvPr/>
        </p:nvSpPr>
        <p:spPr>
          <a:xfrm flipH="1">
            <a:off x="4195080" y="45450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74880" y="137160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 humans &amp; other mammals, there are 2 sex chromosomes: X &amp; Y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X chromosome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velop as a female: </a:t>
            </a:r>
            <a:r>
              <a:rPr b="1" lang="en-US" sz="24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 redundancy,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autosomal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n X &amp; Y chromosom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velop as a male: 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redundanc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491160" y="4610160"/>
          <a:ext cx="2271960" cy="1982880"/>
        </p:xfrm>
        <a:graphic>
          <a:graphicData uri="http://schemas.openxmlformats.org/drawingml/2006/table">
            <a:tbl>
              <a:tblPr/>
              <a:tblGrid>
                <a:gridCol w="1136880"/>
                <a:gridCol w="113508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of S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03" name="Group 15"/>
          <p:cNvGrpSpPr/>
          <p:nvPr/>
        </p:nvGrpSpPr>
        <p:grpSpPr>
          <a:xfrm>
            <a:off x="654120" y="2700360"/>
            <a:ext cx="619200" cy="1239840"/>
            <a:chOff x="654120" y="2700360"/>
            <a:chExt cx="619200" cy="1239840"/>
          </a:xfrm>
        </p:grpSpPr>
        <p:pic>
          <p:nvPicPr>
            <p:cNvPr id="204" name="Picture 16" descr=""/>
            <p:cNvPicPr/>
            <p:nvPr/>
          </p:nvPicPr>
          <p:blipFill>
            <a:blip r:embed="rId1"/>
            <a:srcRect l="75725" t="75725" r="19930" b="6646"/>
            <a:stretch/>
          </p:blipFill>
          <p:spPr>
            <a:xfrm>
              <a:off x="654120" y="2700360"/>
              <a:ext cx="3063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" descr=""/>
            <p:cNvPicPr/>
            <p:nvPr/>
          </p:nvPicPr>
          <p:blipFill>
            <a:blip r:embed="rId2"/>
            <a:srcRect l="75725" t="75725" r="19930" b="6646"/>
            <a:stretch/>
          </p:blipFill>
          <p:spPr>
            <a:xfrm>
              <a:off x="966960" y="2700360"/>
              <a:ext cx="306360" cy="12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Rectangle 18"/>
          <p:cNvSpPr/>
          <p:nvPr/>
        </p:nvSpPr>
        <p:spPr>
          <a:xfrm>
            <a:off x="6843600" y="40885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980120" y="40885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5978520" y="4906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5978520" y="5887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716160" y="490608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7852680" y="588564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7852680" y="490608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2419920" y="6166800"/>
            <a:ext cx="327168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23c1"/>
                </a:solidFill>
                <a:latin typeface="Arial"/>
              </a:rPr>
              <a:t>50% female </a:t>
            </a:r>
            <a:r>
              <a:rPr b="1" lang="en-US" sz="2200" spc="-1" strike="noStrike">
                <a:solidFill>
                  <a:srgbClr val="201a17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50%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6717960" y="588564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Group 27"/>
          <p:cNvGrpSpPr/>
          <p:nvPr/>
        </p:nvGrpSpPr>
        <p:grpSpPr>
          <a:xfrm>
            <a:off x="620640" y="4255920"/>
            <a:ext cx="763560" cy="1239840"/>
            <a:chOff x="620640" y="4255920"/>
            <a:chExt cx="763560" cy="1239840"/>
          </a:xfrm>
        </p:grpSpPr>
        <p:pic>
          <p:nvPicPr>
            <p:cNvPr id="216" name="Picture 28" descr=""/>
            <p:cNvPicPr/>
            <p:nvPr/>
          </p:nvPicPr>
          <p:blipFill>
            <a:blip r:embed="rId3"/>
            <a:srcRect l="75725" t="75725" r="18598" b="6646"/>
            <a:stretch/>
          </p:blipFill>
          <p:spPr>
            <a:xfrm>
              <a:off x="620640" y="4255920"/>
              <a:ext cx="3981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9" descr=""/>
            <p:cNvPicPr/>
            <p:nvPr/>
          </p:nvPicPr>
          <p:blipFill>
            <a:blip r:embed="rId4"/>
            <a:srcRect l="86353" t="75725" r="6646" b="6646"/>
            <a:stretch/>
          </p:blipFill>
          <p:spPr>
            <a:xfrm>
              <a:off x="898200" y="4255920"/>
              <a:ext cx="486000" cy="12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02:51:00Z</dcterms:created>
  <dc:creator>Kim Foglia</dc:creator>
  <dc:description>All Rights Reserved. Copyright 2003. WD Interactive.</dc:description>
  <cp:keywords>Education Biology Zone Kim Foglia</cp:keywords>
  <dc:language>en-US</dc:language>
  <cp:lastModifiedBy>Lisa Miller</cp:lastModifiedBy>
  <cp:lastPrinted>2008-03-17T10:51:46Z</cp:lastPrinted>
  <dcterms:modified xsi:type="dcterms:W3CDTF">2014-01-03T22:06:08Z</dcterms:modified>
  <cp:revision>190</cp:revision>
  <dc:subject>AP &amp; Regents Biology</dc:subject>
  <dc:title>Chapter  14.</dc:title>
</cp:coreProperties>
</file>